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215-0A67-4013-816D-4EA7E3AF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E23-74B3-4E05-92A1-4C713562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4B7-A17A-4451-A4F9-69B75978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30F-8D5E-4F5C-9BF6-49AEAC19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C850-6493-46F0-8F3F-FD5CE4E5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00D1-2A1B-459E-96D3-AFA871D1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EBD0-7445-4493-B7B0-A0A1D02B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E380-59C0-4D09-8F18-CF90384D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446B-DACE-40CE-8431-0E521805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DAE-C71B-4577-A249-14B3F0D0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E4C9-B744-418D-8093-C8974CF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F58-CEED-46F9-A232-BA5E8E9C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E0DB-31C5-4C98-BBB9-F84A39CA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C9E8-D12C-4633-821C-3EF87EE9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15F9-1FF5-4205-B15F-469BC0B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DC83-8C19-4008-ADDA-556BBF86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4058-00EB-4F1C-A9CE-8AA499C1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209-9897-4B3E-86F9-5D2355DC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407-AD30-46BF-B0D9-D175CB92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650-A234-44E3-A4B8-6FFB6368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D2D-A424-480F-B86D-DD7C9F57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B7D-FD13-412A-8096-B6991DE2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ECC-A062-4787-BBCA-1D18F23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CD0-919C-4BEB-B642-BE87E17C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12B0-B7B6-4C5B-A223-C0722BD038A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613-98B5-4E0A-8DEA-DA63F9C30F6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se Ahmad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ste es mi Nuevo la casa es estupendo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cocina es bonito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bano muy gran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sala fabulo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comed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8:55Z</dcterms:created>
  <dc:creator>ahmadijos</dc:creator>
  <dc:description/>
  <dc:language>en-US</dc:language>
  <cp:lastModifiedBy>ahmadijos</cp:lastModifiedBy>
  <dcterms:modified xsi:type="dcterms:W3CDTF">2011-10-25T15:46:25Z</dcterms:modified>
  <cp:revision>6</cp:revision>
  <dc:subject/>
  <dc:title>La Casa</dc:title>
</cp:coreProperties>
</file>